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нтегрисане академске студије </a:t>
            </a:r>
            <a:r>
              <a:rPr b="0" lang="sr-RS" sz="2800" spc="-1" strike="noStrike">
                <a:solidFill>
                  <a:srgbClr val="000000"/>
                </a:solidFill>
                <a:latin typeface="Arial"/>
              </a:rPr>
              <a:t>медицине</a:t>
            </a:r>
            <a:endParaRPr b="0" lang="en-US" sz="28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едмет: Енглески јези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едавач: Душица Лази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biotics</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the mechanisms of antibiotic reaction were not scientifically understood until the late 20</a:t>
            </a:r>
            <a:r>
              <a:rPr b="0" lang="en-US" sz="2000" spc="-1" strike="noStrike" baseline="30000">
                <a:solidFill>
                  <a:srgbClr val="000000"/>
                </a:solidFill>
                <a:latin typeface="Arial"/>
              </a:rPr>
              <a:t>th</a:t>
            </a:r>
            <a:r>
              <a:rPr b="0" lang="en-US" sz="2000" spc="-1" strike="noStrike">
                <a:solidFill>
                  <a:srgbClr val="000000"/>
                </a:solidFill>
                <a:latin typeface="Arial"/>
              </a:rPr>
              <a:t> century, the principle of using organic compounds to fight infection has been known since ancient times. Crude plant extracts were used medicinally for centuries, and there is anecdotal  evidence for the use of cheese molds for topical treatment of infection. The first observation of what would now be called an antibiotic effect was made in the 19</a:t>
            </a:r>
            <a:r>
              <a:rPr b="0" lang="en-US" sz="2000" spc="-1" strike="noStrike" baseline="30000">
                <a:solidFill>
                  <a:srgbClr val="000000"/>
                </a:solidFill>
                <a:latin typeface="Arial"/>
              </a:rPr>
              <a:t>th</a:t>
            </a:r>
            <a:r>
              <a:rPr b="0" lang="en-US" sz="2000" spc="-1" strike="noStrike">
                <a:solidFill>
                  <a:srgbClr val="000000"/>
                </a:solidFill>
                <a:latin typeface="Arial"/>
              </a:rPr>
              <a:t> century by French chemist Louis Pasteur, who discovered that certain saprophytic bacteria can kill anthrax bacilli. In the first decade of the 20</a:t>
            </a:r>
            <a:r>
              <a:rPr b="0" lang="en-US" sz="2000" spc="-1" strike="noStrike" baseline="30000">
                <a:solidFill>
                  <a:srgbClr val="000000"/>
                </a:solidFill>
                <a:latin typeface="Arial"/>
              </a:rPr>
              <a:t>th</a:t>
            </a:r>
            <a:r>
              <a:rPr b="0" lang="en-US" sz="2000" spc="-1" strike="noStrike">
                <a:solidFill>
                  <a:srgbClr val="000000"/>
                </a:solidFill>
                <a:latin typeface="Arial"/>
              </a:rPr>
              <a:t> century, German physician and chemist Paul Ehrlich began experimenting with the synthesis of organic compounds that would selectively attack an infecting organism.........</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u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prophy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irochaet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ysozy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teomyelit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tridi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rlet fev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phalospor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inoglycosi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tracyclin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id people use instead of antibiotics in ancient tim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discovered penicill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couldn’t penicillin be given by mouth in its original for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continued the research with penicill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es penicillin a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disease-bearing organisms are sensitive to penicill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antibiotic was the major treatment for tuberculos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antibiotics be classifi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are antibiotics so important in surgical procedur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potential side effect of intermittent dosing with small doses of antibiot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similar words to the following:</a:t>
            </a:r>
            <a:endParaRPr b="0" lang="en-US" sz="24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uri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mul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ibi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at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en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or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the opposite words to the following:</a:t>
            </a:r>
            <a:endParaRPr b="0" lang="en-US" sz="24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ifi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ad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fu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gth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ve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newe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meaning of the following:</a:t>
            </a:r>
            <a:endParaRPr b="0" lang="en-US" sz="24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ification of penicill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c compound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prophytic bacter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chetype of antibiotic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u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de effec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the following:</a:t>
            </a:r>
            <a:endParaRPr b="0" lang="en-US" sz="24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famous antibiotic 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antibiotic to be used successfully in the treatment of human disease wa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have been developed to treat shingles and chicken pox.</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ibiotics can be classified according to...........................................</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also been used in the treatment or prevention of fungal and protozoal disease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any antibiotic or medication should be un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king points:</a:t>
            </a:r>
            <a:endParaRPr b="0" lang="en-US" sz="2400" spc="-1" strike="noStrike">
              <a:solidFill>
                <a:srgbClr val="000000"/>
              </a:solidFill>
              <a:latin typeface="Arial"/>
            </a:endParaRPr>
          </a:p>
        </p:txBody>
      </p:sp>
      <p:sp>
        <p:nvSpPr>
          <p:cNvPr id="5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at is your attitude towards the use of antibiotic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reen pharmacy – yes or n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14-07-28T09:07:47Z</dcterms:modified>
  <cp:revision>16</cp:revision>
  <dc:subject/>
  <dc:title>Slide 1</dc:title>
</cp:coreProperties>
</file>